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F57-FE60-4159-9F91-0D1D386F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F1B-A62E-4737-A7E2-B64F9945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AF2-F20A-4503-BA5D-191BE3DC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049-1E49-45CB-99AD-D9D6AABF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BCD-4A1C-4A6E-8E16-25E8DCA8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92C-2339-4673-B8E9-87560FAF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106-592A-4D22-987D-7B46EC83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CFC-6B8B-42E1-9627-BCF8B5DE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9CC3-E137-4816-BAF4-070CA066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A79-2971-4E73-BF42-5DB13853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233-62BA-4B07-9242-C7C4ABB7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3D8-8F32-4475-868A-2172767B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4016-F516-40F1-8775-3E6BA54713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3560" y="685800"/>
            <a:ext cx="603756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6032520" cy="819000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5640" y="380880"/>
            <a:ext cx="6372360" cy="876312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6051600" cy="830880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638680" cy="791208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5884920" cy="807588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31920" y="544680"/>
            <a:ext cx="6526080" cy="859932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112080" cy="841212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0200" y="533520"/>
            <a:ext cx="6255000" cy="861048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5945040" cy="818352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5975280" cy="825948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4040" y="762120"/>
            <a:ext cx="5757840" cy="792468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6000840" cy="82598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365880" cy="876312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41440" y="609480"/>
            <a:ext cx="5868720" cy="807732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6205320" cy="831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7720" y="609480"/>
            <a:ext cx="5800680" cy="800100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956560" cy="825984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6840" y="533520"/>
            <a:ext cx="6111720" cy="815328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773680" cy="78422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5942160" cy="815328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95160" y="762120"/>
            <a:ext cx="5713560" cy="792468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6154560" cy="838224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6165720" y="8675640"/>
            <a:ext cx="692280" cy="468360"/>
          </a:xfrm>
          <a:custGeom>
            <a:avLst/>
            <a:gdLst>
              <a:gd name="textAreaLeft" fmla="*/ 30240 w 692280"/>
              <a:gd name="textAreaRight" fmla="*/ 662040 w 692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919" h="21600">
                <a:moveTo>
                  <a:pt x="0" y="0"/>
                </a:moveTo>
                <a:lnTo>
                  <a:pt x="31919" y="0"/>
                </a:lnTo>
                <a:lnTo>
                  <a:pt x="31919" y="21600"/>
                </a:lnTo>
                <a:lnTo>
                  <a:pt x="0" y="21600"/>
                </a:lnTo>
                <a:close/>
              </a:path>
              <a:path fill="lightenLess" w="31919" h="21600">
                <a:moveTo>
                  <a:pt x="0" y="0"/>
                </a:moveTo>
                <a:lnTo>
                  <a:pt x="31919" y="0"/>
                </a:lnTo>
                <a:lnTo>
                  <a:pt x="30519" y="1400"/>
                </a:lnTo>
                <a:lnTo>
                  <a:pt x="1400" y="1400"/>
                </a:lnTo>
                <a:close/>
              </a:path>
              <a:path fill="darken" w="31919" h="21600">
                <a:moveTo>
                  <a:pt x="31919" y="0"/>
                </a:moveTo>
                <a:lnTo>
                  <a:pt x="31919" y="21600"/>
                </a:lnTo>
                <a:lnTo>
                  <a:pt x="30519" y="20200"/>
                </a:lnTo>
                <a:lnTo>
                  <a:pt x="30519" y="1400"/>
                </a:lnTo>
                <a:close/>
              </a:path>
              <a:path fill="darkenLess" w="31919" h="21600">
                <a:moveTo>
                  <a:pt x="3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9" y="20200"/>
                </a:lnTo>
                <a:close/>
              </a:path>
              <a:path fill="lighten" w="3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9" h="21600">
                <a:moveTo>
                  <a:pt x="8953" y="3794"/>
                </a:moveTo>
                <a:lnTo>
                  <a:pt x="22966" y="10800"/>
                </a:lnTo>
                <a:lnTo>
                  <a:pt x="895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19:23:20Z</dcterms:created>
  <dc:creator>leonardo</dc:creator>
  <dc:description/>
  <dc:language>en-US</dc:language>
  <cp:lastModifiedBy>DE CONTERIS</cp:lastModifiedBy>
  <dcterms:modified xsi:type="dcterms:W3CDTF">2004-07-10T08:04:47Z</dcterms:modified>
  <cp:revision>9</cp:revision>
  <dc:subject/>
  <dc:title>Presentazione di PowerPoint</dc:title>
</cp:coreProperties>
</file>